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1C6-7C72-42E1-BBB3-48813AE7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05D-8DBD-41C1-93E9-9A96587B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5C6-13C3-4C20-8903-67C1E77AE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3A8-D48B-43E5-8D4E-6D86B6D5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2BB-E023-4D14-A0F0-F29635F7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602-4AE6-4722-98E2-DAD8B6AF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77B-8AB3-484D-8AC5-8488206A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CB4-678F-4479-9321-CD68EDA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B78-2774-4D68-B7C2-F3653B5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276-1F91-45BD-8669-0FAC6C2F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277-4AF8-4D0F-B54D-5B1DA618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2BD-B638-43CA-9D4D-567745F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5CB8-35C3-4930-A9A5-CC8F201B900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contar+algunas+situaciones+de+explotaci&#243;n+infantiles+y+juvenil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voki.com/" TargetMode="External"/><Relationship Id="rId5" Type="http://schemas.openxmlformats.org/officeDocument/2006/relationships/hyperlink" Target="http://www.slideshare.net/AnaBasterra/voki-copia" TargetMode="External"/><Relationship Id="rId6" Type="http://schemas.openxmlformats.org/officeDocument/2006/relationships/hyperlink" Target="http://revolucion-industrial.wikispaces.com/file/view/Informaci&#243;n%20escrita%20para%20crear%20mis%20personajes.doc/356042496/Informaci&#243;n%20escrita%20para%20crear%20mis%20personajes.doc" TargetMode="External"/><Relationship Id="rId7" Type="http://schemas.openxmlformats.org/officeDocument/2006/relationships/hyperlink" Target="http://revolucion-industrial.wikispaces.com/file/view/MI%20DIARIO%20DE%20APRENDIZAJE.doc/383179572/MI%20DIARIO%20DE%20APRENDIZAJE.doc" TargetMode="External"/><Relationship Id="rId8" Type="http://schemas.openxmlformats.org/officeDocument/2006/relationships/hyperlink" Target="http://revolucion-industrial.wikispaces.com/file/view/Texto%20Antes%20de%20empezar.doc/356050700/Texto%20Antes%20de%20empezar.doc" TargetMode="External"/><Relationship Id="rId9" Type="http://schemas.openxmlformats.org/officeDocument/2006/relationships/hyperlink" Target="http://revolucion-industrial.wikispaces.com/file/view/CREAMOS%20NUESTROS%20PERSONAJES%20Y%20LES%20PONEMOS%20VOZ.doc/356046170/CREAMOS%20NUESTROS%20PERSONAJES%20Y%20LES%20PONEMOS%20VOZ.doc" TargetMode="External"/><Relationship Id="rId10" Type="http://schemas.openxmlformats.org/officeDocument/2006/relationships/hyperlink" Target="http://www.slideshare.net/AnaBasterra/voki-copia" TargetMode="External"/><Relationship Id="rId11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2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3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REA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tilizando diferentes avatares,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amos situaciones de explotación infantil y juvenil en el siglo XX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vokipic"/>
          <p:cNvPicPr/>
          <p:nvPr/>
        </p:nvPicPr>
        <p:blipFill>
          <a:blip r:embed="rId2"/>
          <a:stretch/>
        </p:blipFill>
        <p:spPr>
          <a:xfrm>
            <a:off x="0" y="907920"/>
            <a:ext cx="2371680" cy="310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voki-girl"/>
          <p:cNvPicPr/>
          <p:nvPr/>
        </p:nvPicPr>
        <p:blipFill>
          <a:blip r:embed="rId3"/>
          <a:stretch/>
        </p:blipFill>
        <p:spPr>
          <a:xfrm>
            <a:off x="0" y="3963960"/>
            <a:ext cx="2155680" cy="289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340000" y="1087560"/>
            <a:ext cx="6553080" cy="520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puede ser individual o en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1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cemos la aplicació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VOKI 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rimos una cuenta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2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scamos información en Internet para poner voz a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lantilla para recoger la información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3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. Escribimos en nuestro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diario de aprendiz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4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mos en qué personajes vamos a crear y les ponemos voz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lantilla para crear los personaj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utoria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crear los personajes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a exposición 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5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mos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lantill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6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os personajes a los compañeros. Plantilla de evaluación de exposición 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484360" y="5877000"/>
            <a:ext cx="316728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4643280" y="60213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os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594036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º ESO Instituto de Astrabud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1:41Z</dcterms:created>
  <dc:creator>Mari</dc:creator>
  <dc:description/>
  <dc:language>en-US</dc:language>
  <cp:lastModifiedBy>Mari</cp:lastModifiedBy>
  <dcterms:modified xsi:type="dcterms:W3CDTF">2015-04-21T19:21:05Z</dcterms:modified>
  <cp:revision>1</cp:revision>
  <dc:subject/>
  <dc:title>Diapositiva 1</dc:title>
</cp:coreProperties>
</file>